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82DC-33ED-4F38-B092-3E02ACFE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familiarity with your network or organization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y interacted with your group in the past? What was the nature of that inte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knowledge about the advocacy issue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udience well-informed or lacking accurate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agreement with your position on the issue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power map, would you identify the target audience as supportive, opposed, or neutral?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previous, demonstrated support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he audience actively supported your position on the issue? Describe that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1F3-A624-451F-B919-EE74179D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A06-6C80-4238-99A8-EC7B157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203-BA53-4F14-A851-2EA5177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82D-B76C-4DAA-883B-72ED65FE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204-D2A2-4AAD-9575-63F98FB1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05B-0FDE-42D7-90AA-F2517A8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3EA-7E00-448D-901A-1B87212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9B3-0024-4743-BF15-C2B3CA1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E9F-4F19-4923-B87A-6C3F58C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350-5430-4F74-B8D4-0FC93D6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9BE-7475-42A8-9EF1-B38F3C3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8AB-3844-4A14-AC72-FC18102C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488-A621-4024-9E59-E7E0662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1B0C-BCA4-419E-9722-B11F04B15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153280" y="5943600"/>
            <a:ext cx="69228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153280" y="5943600"/>
            <a:ext cx="69228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582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848720" y="457200"/>
            <a:ext cx="92232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80880" y="5200560"/>
            <a:ext cx="3276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dd9c3"/>
                </a:solidFill>
                <a:latin typeface="Calibri"/>
              </a:rPr>
              <a:t>Office of Overseas Programming &amp; Training Support (OP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BUG 2010 031510-D1611.jpg"/>
          <p:cNvPicPr/>
          <p:nvPr/>
        </p:nvPicPr>
        <p:blipFill>
          <a:blip r:embed="rId4"/>
          <a:stretch/>
        </p:blipFill>
        <p:spPr>
          <a:xfrm>
            <a:off x="6095880" y="2971800"/>
            <a:ext cx="3048120" cy="2021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UGD-2006-D116.jpg"/>
          <p:cNvPicPr/>
          <p:nvPr/>
        </p:nvPicPr>
        <p:blipFill>
          <a:blip r:embed="rId5"/>
          <a:srcRect l="0" t="3652" r="0" b="0"/>
          <a:stretch/>
        </p:blipFill>
        <p:spPr>
          <a:xfrm>
            <a:off x="2971800" y="2979720"/>
            <a:ext cx="3124080" cy="20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MGA-2006-D354.jp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0" y="2971800"/>
            <a:ext cx="298764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-7920" y="298116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0" y="49878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7"/>
          <p:cNvSpPr/>
          <p:nvPr/>
        </p:nvSpPr>
        <p:spPr>
          <a:xfrm flipV="1">
            <a:off x="2971800" y="294768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 flipV="1">
            <a:off x="6103800" y="296352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2c00"/>
                </a:solidFill>
                <a:latin typeface="Calibri"/>
              </a:rPr>
              <a:t>Community Economic Development</a:t>
            </a:r>
            <a:br>
              <a:rPr sz="3200"/>
            </a:br>
            <a:endParaRPr b="0" lang="en-US" sz="32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Advocacy Training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Audienc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2c00"/>
                </a:solidFill>
                <a:latin typeface="Calibri"/>
              </a:rPr>
              <a:t>Strategic Communication </a:t>
            </a:r>
            <a:br>
              <a:rPr sz="4000"/>
            </a:br>
            <a:r>
              <a:rPr b="0" lang="en-US" sz="4000" spc="-1" strike="noStrike">
                <a:solidFill>
                  <a:srgbClr val="582c00"/>
                </a:solidFill>
                <a:latin typeface="Calibri"/>
              </a:rPr>
              <a:t>Audience Analysis </a:t>
            </a:r>
            <a:endParaRPr b="0" lang="en-US" sz="40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is session, together we will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Strategic Communicatio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 target audience and analyze its interest in an advocacy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Team Assignments</a:t>
            </a: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305920" cy="4191120"/>
        </p:xfrm>
        <a:graphic>
          <a:graphicData uri="http://schemas.openxmlformats.org/drawingml/2006/table">
            <a:tbl>
              <a:tblPr/>
              <a:tblGrid>
                <a:gridCol w="846000"/>
                <a:gridCol w="1922760"/>
                <a:gridCol w="553716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ignment:  After the lecture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k at least two questions about the lecture mater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e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which points your team agreed with (or found helpful) and explain wh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ys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on which points your team disagreed with (or found unhelpful) and explain wh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 Giv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ain specific examples or applications of the lecture mater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What is Strategic Communication? 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ategic Communication is any planned communication activity that seeks to achieve one of the following communication goals INFORM, PERSUADE, MOTIVATE, or MOVE to ACTION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What is Strategic Communication 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Know your self well and your audience even bet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ivil society organization (CSO) is concerned about an illegal garbage dump and wants the local government to relocate it. Imagine that the organization has secured a meeting with the local mayor to draw his/her attention to the problem. The CSO hopes to convince the mayor to designate funds to clean up the dump site and maintain it in the futu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sk: Look at the situation from the mayor’s perspective and define several personal benefits s/he will derive from supporting the advocacy objec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Strategic Communication Model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 of Strategic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U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TO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Audience Analysis Form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familiarity with your network o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knowledge about the advocacy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agreement with your position on the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of previous, demonstrated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2c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582c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you gave any of the target audience factors a low evaluation, how will you counteract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sed on the analysis, how will you formulate an advocacy message that appeals to your audi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8:07:16Z</dcterms:created>
  <dc:creator> </dc:creator>
  <dc:description/>
  <dc:language>en-US</dc:language>
  <cp:lastModifiedBy>Mark Huffman</cp:lastModifiedBy>
  <dcterms:modified xsi:type="dcterms:W3CDTF">2013-06-07T18:29:11Z</dcterms:modified>
  <cp:revision>240</cp:revision>
  <dc:subject/>
  <dc:title>Slide 1</dc:title>
</cp:coreProperties>
</file>